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8C3E-1264-488A-B65A-550DF2429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8BE6-F23A-457F-8A5E-DBA42C4EF7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лияние алкоголя на кровеносную сист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DB18-772B-44CF-A4D1-571FC7E387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97C7-0494-46BA-B238-FC512B7BD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FB35-D598-405F-8BAA-87C07BF6C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DA3-35C5-4346-98B3-05884002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6C4-13DC-4A7C-B8BA-7D92AFFA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1AAE7-D811-436F-B586-09091DD8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19475-3B2A-4E6B-B7BA-D1F5A1A9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14DF3-4C1B-446E-9C5D-06762E4B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9CF2B-B69F-4D14-937F-AC75E8EE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1E591-3B62-4384-9253-FD3A687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61156-A3C9-43B6-8608-2E68B36E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FCBA0-CE41-4AA3-9C98-CA258EFD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40BB0-B7CD-41DA-8C09-FB3CFBEE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512AA-FCC7-47A4-98FD-E0576F7B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53D-9408-4A01-BCF9-6E51DF6E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298-1F2F-4234-88C1-0D8BAFB5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BA4F-3370-49D7-9F50-CFB113CF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05CE-2C6A-4B13-8AAE-92985098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C8C4-E1A5-4FA8-A8D3-B80EA9BD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A7C3-E794-4E6E-BD3B-15D0DCAC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27B4-032C-4C96-A894-B9E0E3E4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EC34-C1E2-45C8-86E2-7F26F2BF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D278-06D1-4136-9290-BD5FABDB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B24-B21B-47E8-9560-673B5BB9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132B-49BD-491A-96C7-B9FEC66C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C06E-A509-4AD3-8799-D840DA72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E665-8941-4821-9FA3-5A1FA039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15C5-45AC-48E9-8C46-DB817918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A491-8688-4694-BD19-F81F34C8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A5E6-856C-4C36-B2B8-21C77EA9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52723-A295-4E51-935E-0F93DCAA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31E99-B4EF-4D6D-B763-49198BAE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0AF5A-964A-4FE2-AEF1-E856BE85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1EFFA-BE8B-4F5D-98C2-69F3F4D1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B9F-5B6C-4124-9226-1010080E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2508-6A65-48CC-ADEA-DC9FFADD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4D53D-6AFA-4A30-BFD5-F1080F30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2622-C3CE-44BD-8147-67E2CEC5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544B-D28F-4A64-AD8C-30F66D2E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D47AB-EBF4-4F57-B2DD-952993F8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A8F2-95A6-47AF-9DC8-A26DEF03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F3B5D-9824-44D7-9122-621B37EB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3D457-A081-4893-A0EF-9AB58225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E48D3-1977-4644-B6D4-46B86005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72BB0-00DB-4037-9102-A9C53B76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C8D-6D31-4174-B3B8-7C2C250B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9033E-1750-4EC9-B995-2847464D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A8CEC-C1BF-4AB4-91A9-2588BE15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2ED9E-5A79-48E5-99CF-7B1C7024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265A-3145-4158-9A8B-324D3B23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CD697-F5A5-42D9-9DD1-E9AEB978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AC80-6791-4231-8271-6ACBF94F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62751-A9F1-43D9-AC46-A4982D32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C6D9-77E1-4F1F-BB6A-DBC4E59B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85B0-B723-4FC4-936F-94D1CA3D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9866C-30D3-47F9-B322-31CCBF67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F85-46ED-4295-8EC5-2232BC25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9C074-B20B-4061-B19F-FF14C5A0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FED3-A754-43E6-913B-A5CF9B76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9819A-47FC-41ED-BE84-32130F95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3BA2A-7B0F-4434-B8AC-ECB17B56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547BA-4DBF-4743-96AA-5791A1A3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6A45B-14B9-45FB-8672-5FF17189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CBF54-5997-47C0-B6C8-11087014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C5F02-9532-49FF-B1B8-703E8FFC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DCC14-50BF-4429-BF2F-52E4FE2E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FCD45-C546-4100-AED7-8B8A7FAA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172-091F-4A9E-8F2F-67092FEE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07DCB-804B-4675-AFE5-7CB052D1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368CF-02DE-42C9-8754-BDA7411F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BB507-33E2-46BB-857B-28F36841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DACEF-4DF5-461E-81FA-B243F815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A54F9-19F7-4CB8-BE10-43D85B43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293D4-2550-4F27-A1C0-2B0846EA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F5F74-6847-4F47-BC4E-0AA68EF8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5AA09-06E3-4160-B485-BEAF2C7F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E0005-3503-485E-8CF2-A4B62515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F0ECA-6BCD-4094-95FF-74F5104C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8DA-9260-4C5B-A89A-6BEC6C0F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5DAE9-C308-44C4-B842-26458F87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6E1EF-9818-47D2-B6E2-8C05B958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74C59-F38C-4FEA-BEAB-32FBE618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761E0-5726-4343-AAC4-EDF9F9D5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B7010-6039-4BD0-B852-831859DC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42CF1-B16E-4AD0-B9F2-758D1D4B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B3668-9386-4250-9238-2C4CCCA4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D48F6-7AC2-41F8-A12B-9AECD1C2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F2C0D-A520-407B-B721-7F1B9D62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6455B-6E85-4A37-A5A5-5DAE8791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1B2-595C-433C-9371-DC29851B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8EED4-35F4-48B7-9820-B8B02CD6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FCBD1-764E-45E7-8858-13477F23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34885-9722-49E6-B8F0-A796A372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DFC62-BB85-4C4B-8FD3-3D6B92FF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85BE-2813-45A2-B234-CE885C7B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71A29-D7AE-4110-B376-65B6907B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16DFA-FD80-4F6B-927C-EAEB85F1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4A2EF-2305-4D60-91F3-D0D564E9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CE86C-9711-483A-BB69-62ACB5E2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F6607-3AB9-4AC6-B79A-BBC87D33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EEA-9CA9-4BC3-BFCB-1D453FD8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3AB09-C5A6-4A18-B1CF-9B3495EF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670B3-2876-450E-A5C8-9895830E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9275D-C369-465D-8505-EFD7C806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9F509-AFB1-492C-8746-3DB090DF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80732-2CEB-44F8-B2F9-A2719CC4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961F7-7806-4D60-8D27-87E8F2FC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847D9-5B11-480F-A88B-EAB88D4E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64A81-5F3E-4A78-8E28-AF8DFD0E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13BAB-8FBD-4605-AFC7-C8454517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0F235-4423-4F13-A2FC-C3AC1DDB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AE4E-0C9E-4E2A-AA8B-3FD29A97F93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3E26-9845-499B-9078-E082F28D85E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3BBD-12C9-43FD-BC19-03498FB59B6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9D51-0258-4850-A426-D89ED70E22F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980C-8386-48D0-88DC-5C327FD52FC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F852-3772-4257-BA37-0D9A41A387D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5CB1-F94E-48C6-8277-2AEFADD5A67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8491-1F26-421D-82C2-0199812A520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8AB7-5A39-4153-B5EC-FB995E49709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0"/>
            <a:ext cx="9156960" cy="6229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6720840"/>
            <a:ext cx="85010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Сердце 3"/>
          <p:cNvSpPr/>
          <p:nvPr/>
        </p:nvSpPr>
        <p:spPr>
          <a:xfrm>
            <a:off x="6215040" y="1500120"/>
            <a:ext cx="271476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285840" y="-428760"/>
            <a:ext cx="55720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10" name="WordArt 6" descr=""/>
          <p:cNvPicPr/>
          <p:nvPr/>
        </p:nvPicPr>
        <p:blipFill>
          <a:blip r:embed="rId6"/>
          <a:stretch/>
        </p:blipFill>
        <p:spPr>
          <a:xfrm>
            <a:off x="-6480" y="1060560"/>
            <a:ext cx="5943600" cy="4194000"/>
          </a:xfrm>
          <a:prstGeom prst="rect">
            <a:avLst/>
          </a:prstGeom>
          <a:ln w="0">
            <a:noFill/>
          </a:ln>
        </p:spPr>
      </p:pic>
      <p:sp>
        <p:nvSpPr>
          <p:cNvPr id="411" name="WordArt 7"/>
          <p:cNvSpPr txBox="1"/>
          <p:nvPr/>
        </p:nvSpPr>
        <p:spPr>
          <a:xfrm>
            <a:off x="4572000" y="5929200"/>
            <a:ext cx="4357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окринская В. М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Прямоугольник 9" descr=""/>
          <p:cNvPicPr/>
          <p:nvPr/>
        </p:nvPicPr>
        <p:blipFill>
          <a:blip r:embed="rId7"/>
          <a:stretch/>
        </p:blipFill>
        <p:spPr>
          <a:xfrm>
            <a:off x="-6480" y="5224320"/>
            <a:ext cx="501192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11" descr=""/>
          <p:cNvPicPr/>
          <p:nvPr/>
        </p:nvPicPr>
        <p:blipFill>
          <a:blip r:embed="rId8"/>
          <a:stretch/>
        </p:blipFill>
        <p:spPr>
          <a:xfrm>
            <a:off x="4853160" y="5029200"/>
            <a:ext cx="42973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4cc4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 flipV="1" rot="10800000">
            <a:off x="3071880" y="240120"/>
            <a:ext cx="27144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 flipV="1" rot="10800000">
            <a:off x="571320" y="159120"/>
            <a:ext cx="221436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357960" y="214200"/>
            <a:ext cx="235728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2"/>
          <p:cNvSpPr/>
          <p:nvPr/>
        </p:nvSpPr>
        <p:spPr>
          <a:xfrm flipV="1" rot="10800000">
            <a:off x="5929200" y="1018080"/>
            <a:ext cx="32148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гиподина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214960" y="4714920"/>
            <a:ext cx="364320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атеросклер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7"/>
          <p:cNvSpPr/>
          <p:nvPr/>
        </p:nvSpPr>
        <p:spPr>
          <a:xfrm>
            <a:off x="2714760" y="5643720"/>
            <a:ext cx="42145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тромбофле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1"/>
          <p:cNvSpPr/>
          <p:nvPr/>
        </p:nvSpPr>
        <p:spPr>
          <a:xfrm>
            <a:off x="214200" y="1000080"/>
            <a:ext cx="2286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9"/>
          <p:cNvSpPr/>
          <p:nvPr/>
        </p:nvSpPr>
        <p:spPr>
          <a:xfrm flipV="1" rot="10800000">
            <a:off x="285840" y="4857840"/>
            <a:ext cx="328608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гипертони</a:t>
            </a:r>
            <a:r>
              <a:rPr b="1" lang="ru-RU" sz="3600" spc="-1" strike="noStrike">
                <a:solidFill>
                  <a:srgbClr val="c20e8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9"/>
          <p:cNvSpPr/>
          <p:nvPr/>
        </p:nvSpPr>
        <p:spPr>
          <a:xfrm>
            <a:off x="6215040" y="3429000"/>
            <a:ext cx="24289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инсуль</a:t>
            </a: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1"/>
          <p:cNvSpPr/>
          <p:nvPr/>
        </p:nvSpPr>
        <p:spPr>
          <a:xfrm>
            <a:off x="285840" y="3071880"/>
            <a:ext cx="250020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Инфаркт миок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3"/>
          <p:cNvSpPr/>
          <p:nvPr/>
        </p:nvSpPr>
        <p:spPr>
          <a:xfrm>
            <a:off x="2071800" y="1785960"/>
            <a:ext cx="528624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20e86"/>
                </a:solidFill>
                <a:latin typeface="Arial"/>
              </a:rPr>
              <a:t>Сердечно- сосудистые           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45"/>
          <p:cNvSpPr/>
          <p:nvPr/>
        </p:nvSpPr>
        <p:spPr>
          <a:xfrm flipV="1" rot="5400000">
            <a:off x="3870360" y="1298520"/>
            <a:ext cx="642960" cy="460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низ 46"/>
          <p:cNvSpPr/>
          <p:nvPr/>
        </p:nvSpPr>
        <p:spPr>
          <a:xfrm rot="18429000">
            <a:off x="3157200" y="656640"/>
            <a:ext cx="55800" cy="1138320"/>
          </a:xfrm>
          <a:prstGeom prst="downArrow">
            <a:avLst>
              <a:gd name="adj1" fmla="val 50000"/>
              <a:gd name="adj2" fmla="val 4977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Стрелка вправо 47"/>
          <p:cNvSpPr/>
          <p:nvPr/>
        </p:nvSpPr>
        <p:spPr>
          <a:xfrm flipV="1" rot="2161800">
            <a:off x="2606760" y="1305000"/>
            <a:ext cx="572760" cy="6336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трелка влево 48"/>
          <p:cNvSpPr/>
          <p:nvPr/>
        </p:nvSpPr>
        <p:spPr>
          <a:xfrm rot="19444800">
            <a:off x="4838760" y="1068480"/>
            <a:ext cx="1587600" cy="46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лево 49"/>
          <p:cNvSpPr/>
          <p:nvPr/>
        </p:nvSpPr>
        <p:spPr>
          <a:xfrm flipV="1" rot="19713600">
            <a:off x="5181120" y="1418400"/>
            <a:ext cx="538560" cy="46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трелка вправо 53"/>
          <p:cNvSpPr/>
          <p:nvPr/>
        </p:nvSpPr>
        <p:spPr>
          <a:xfrm flipV="1">
            <a:off x="2857680" y="3786120"/>
            <a:ext cx="285480" cy="46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54"/>
          <p:cNvSpPr/>
          <p:nvPr/>
        </p:nvSpPr>
        <p:spPr>
          <a:xfrm flipV="1">
            <a:off x="5643720" y="388296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верх 55"/>
          <p:cNvSpPr/>
          <p:nvPr/>
        </p:nvSpPr>
        <p:spPr>
          <a:xfrm rot="2826600">
            <a:off x="2829600" y="4308840"/>
            <a:ext cx="52560" cy="457200"/>
          </a:xfrm>
          <a:prstGeom prst="upArrow">
            <a:avLst>
              <a:gd name="adj1" fmla="val 50000"/>
              <a:gd name="adj2" fmla="val 498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верх 56"/>
          <p:cNvSpPr/>
          <p:nvPr/>
        </p:nvSpPr>
        <p:spPr>
          <a:xfrm>
            <a:off x="4429080" y="4643280"/>
            <a:ext cx="46080" cy="85752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лево 57"/>
          <p:cNvSpPr/>
          <p:nvPr/>
        </p:nvSpPr>
        <p:spPr>
          <a:xfrm flipV="1" rot="2052000">
            <a:off x="5927400" y="4392360"/>
            <a:ext cx="5508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6"/>
          <p:cNvSpPr/>
          <p:nvPr/>
        </p:nvSpPr>
        <p:spPr>
          <a:xfrm>
            <a:off x="1500120" y="1285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57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85880" y="6072120"/>
            <a:ext cx="2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428760" y="-500040"/>
            <a:ext cx="9786960" cy="7643880"/>
          </a:xfrm>
          <a:prstGeom prst="rect">
            <a:avLst/>
          </a:prstGeom>
          <a:ln w="0">
            <a:noFill/>
          </a:ln>
        </p:spPr>
      </p:pic>
      <p:cxnSp>
        <p:nvCxnSpPr>
          <p:cNvPr id="470" name="Прямая со стрелкой 10"/>
          <p:cNvCxnSpPr/>
          <p:nvPr/>
        </p:nvCxnSpPr>
        <p:spPr>
          <a:xfrm flipV="1">
            <a:off x="571680" y="1285560"/>
            <a:ext cx="2160" cy="21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71" name="TextBox 9"/>
          <p:cNvSpPr/>
          <p:nvPr/>
        </p:nvSpPr>
        <p:spPr>
          <a:xfrm>
            <a:off x="6715080" y="6429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156960" cy="1603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6"/>
          <p:cNvSpPr/>
          <p:nvPr/>
        </p:nvSpPr>
        <p:spPr>
          <a:xfrm>
            <a:off x="3214800" y="1643040"/>
            <a:ext cx="257148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Физически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 flipV="1" rot="10800000">
            <a:off x="6072120" y="1606320"/>
            <a:ext cx="26431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Активн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"/>
          <p:cNvSpPr/>
          <p:nvPr/>
        </p:nvSpPr>
        <p:spPr>
          <a:xfrm>
            <a:off x="2643120" y="5214960"/>
            <a:ext cx="407196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c4c2c"/>
                </a:solidFill>
                <a:uFillTx/>
                <a:latin typeface="Arial"/>
              </a:rPr>
              <a:t>Это способствует укреплению сердечной мыш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4"/>
          <p:cNvSpPr/>
          <p:nvPr/>
        </p:nvSpPr>
        <p:spPr>
          <a:xfrm>
            <a:off x="357120" y="1643040"/>
            <a:ext cx="242892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Посиль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322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7"/>
          <p:cNvSpPr/>
          <p:nvPr/>
        </p:nvSpPr>
        <p:spPr>
          <a:xfrm flipV="1" rot="10800000">
            <a:off x="428400" y="3179520"/>
            <a:ext cx="407196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величивается объем крови, протекающей через сердечную мыш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5000760" y="2786040"/>
            <a:ext cx="35719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лучшается снабжение сердца кислородом и питатель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Выгнутая влево стрелка 18"/>
          <p:cNvSpPr/>
          <p:nvPr/>
        </p:nvSpPr>
        <p:spPr>
          <a:xfrm rot="18385200">
            <a:off x="502560" y="4426560"/>
            <a:ext cx="1050840" cy="2795400"/>
          </a:xfrm>
          <a:custGeom>
            <a:avLst/>
            <a:gdLst>
              <a:gd name="textAreaLeft" fmla="*/ 140760 w 1050840"/>
              <a:gd name="textAreaRight" fmla="*/ 910080 w 1050840"/>
              <a:gd name="textAreaTop" fmla="*/ 600120 h 2795400"/>
              <a:gd name="textAreaBottom" fmla="*/ 2063880 h 27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8" stAng="-5400000" swAng="-5400000"/>
                <a:lnTo>
                  <a:pt x="0" y="11308"/>
                </a:lnTo>
                <a:arcTo wR="21600" hR="9278" stAng="10800000" swAng="-3539289"/>
                <a:lnTo>
                  <a:pt x="16200" y="21305"/>
                </a:lnTo>
                <a:lnTo>
                  <a:pt x="21600" y="19570"/>
                </a:lnTo>
                <a:lnTo>
                  <a:pt x="16200" y="17245"/>
                </a:lnTo>
                <a:lnTo>
                  <a:pt x="16200" y="18260"/>
                </a:lnTo>
                <a:arcTo wR="21600" hR="9278" stAng="7260711" swAng="3376892"/>
                <a:lnTo>
                  <a:pt x="130" y="10293"/>
                </a:lnTo>
                <a:arcTo wR="21600" hR="9278" stAng="-10637603" swAng="5237603"/>
                <a:close/>
              </a:path>
              <a:path fill="darkenLess" w="21600" h="21600">
                <a:moveTo>
                  <a:pt x="21600" y="0"/>
                </a:moveTo>
                <a:arcTo wR="21600" hR="9278" stAng="-5400000" swAng="-5400000"/>
                <a:lnTo>
                  <a:pt x="0" y="9278"/>
                </a:lnTo>
                <a:arcTo wR="21600" hR="9278" stAng="10800000" swAng="-162397"/>
                <a:lnTo>
                  <a:pt x="130" y="10293"/>
                </a:lnTo>
                <a:arcTo wR="21600" hR="9278" stAng="-10637603" swAng="5237603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Выгнутая вправо стрелка 19"/>
          <p:cNvSpPr/>
          <p:nvPr/>
        </p:nvSpPr>
        <p:spPr>
          <a:xfrm rot="3010200">
            <a:off x="7541640" y="4733640"/>
            <a:ext cx="866880" cy="2514600"/>
          </a:xfrm>
          <a:custGeom>
            <a:avLst/>
            <a:gdLst>
              <a:gd name="textAreaLeft" fmla="*/ 115920 w 866880"/>
              <a:gd name="textAreaRight" fmla="*/ 750960 w 866880"/>
              <a:gd name="textAreaTop" fmla="*/ 547200 h 2514600"/>
              <a:gd name="textAreaBottom" fmla="*/ 1859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3559782"/>
                <a:lnTo>
                  <a:pt x="5400" y="21301"/>
                </a:lnTo>
                <a:lnTo>
                  <a:pt x="0" y="19739"/>
                </a:lnTo>
                <a:lnTo>
                  <a:pt x="5400" y="17578"/>
                </a:lnTo>
                <a:lnTo>
                  <a:pt x="5400" y="18509"/>
                </a:lnTo>
                <a:arcTo wR="21600" hR="9404" stAng="3559782" swAng="-3411051"/>
                <a:lnTo>
                  <a:pt x="21494" y="10335"/>
                </a:lnTo>
                <a:arcTo wR="21600" hR="9404" stAng="-148731" swAng="-5251269"/>
                <a:close/>
              </a:path>
              <a:path fill="darkenLess"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-148731"/>
                <a:lnTo>
                  <a:pt x="21494" y="10335"/>
                </a:lnTo>
                <a:arcTo wR="21600" hR="9404" stAng="-148731" swAng="-525126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428760" y="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Приемы остановки кровот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0" y="642960"/>
            <a:ext cx="914400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Капилляр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работайте края  раны й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ежьте квадратный кусок бинта и сложите его вчетверо. Нанесите на сложенный бинт мазь и приложите к ране, сверху положите вату и сделайте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Артериаль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Алая кровь. Текущая пульсирующей струй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обходимо наложить жгут. Он накладывается на одежду или (кусок ткани).чтобы не повредить кожу, выш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делайте жгутом 2-3 оборота, пока не перестанет прощупываться пульсация. Жгут накладывают на  1,5-2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ложить записку с обозначением времени наложения жг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На рану- стерильная повязка.  Пострадавшего доставит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0e86"/>
                </a:solidFill>
                <a:latin typeface="Arial"/>
              </a:rPr>
              <a:t>Венозное кровотечение.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ная кровь, вытекающая непрерывной стру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и повреждении крупного венозного сосуда наложите ж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повреждении мелкого сосуда- давящ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714240" y="114300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34b38"/>
                </a:solidFill>
                <a:uFillTx/>
                <a:latin typeface="Franklin Gothic Book"/>
              </a:rPr>
              <a:t>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0" y="185724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ВИЖЕНИЕ КРОВИ ПО КРОВЕНОСНЫМ СОСУД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ЫЙ КРУПНЫЙ СОСУ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Н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ОВЬ, НАСЫЩЕННАЯ УГЛЕКИСЛЫМ ГАЗ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УТЬ КРОВИ ОТ ЛЕВОГО ЖЕЛУДОЧКА ДО ПРАВОГО ПРЕДСЕРД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8" descr=""/>
          <p:cNvPicPr/>
          <p:nvPr/>
        </p:nvPicPr>
        <p:blipFill>
          <a:blip r:embed="rId1"/>
          <a:stretch/>
        </p:blipFill>
        <p:spPr>
          <a:xfrm>
            <a:off x="706320" y="-212760"/>
            <a:ext cx="8444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2"/>
          <p:cNvSpPr/>
          <p:nvPr/>
        </p:nvSpPr>
        <p:spPr>
          <a:xfrm>
            <a:off x="0" y="0"/>
            <a:ext cx="91440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7. ПРЕПАРАТ ИЗ УБИТЫХ ИЛИ ОСЛАБЛЕННЫХ МИКРООРГАНИЗМ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8. СПОСОБНОСТЬ ОРГАНИЗМА ЗАЩИЩАТЬСЯ ОТ ИНФЕКЦИОННОГО ВОЗДЕЙСТВ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9.КРОВЕНОСНЫЕ СОСУДЫ, ПО КОТОРЫМ КРОВЬ ДВИЖЕТСЯ К СЕРДЦ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еловек, предоставляющий часть сво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КРОВИ ДЛЯ ПЕРЕЛИ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1. ВЕЩЕСТВО, ВХОДЯЩЕЕ В СОСТАВ ЭРИТРОЦИТ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. ЖИДКАЯ ЧАСТЬ КРОВ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3. ГРУППА КРОВИ УНИВЕРСИЛЬНОГО ДОНО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3"/>
          <p:cNvSpPr/>
          <p:nvPr/>
        </p:nvSpPr>
        <p:spPr>
          <a:xfrm>
            <a:off x="0" y="0"/>
            <a:ext cx="914400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Кровь, насыщенная кислоро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Периодическое толчкообраз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бание стенки аорты, синхронно сокращению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 Путь от правого желудочка до левого предсерд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. Сосуды, несущие кровь от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.Вещества, вырабатываемые лейкоцитами на чужеродный бел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Явление склеивания эритроцит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500720" y="685800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7" descr=""/>
          <p:cNvPicPr/>
          <p:nvPr/>
        </p:nvPicPr>
        <p:blipFill>
          <a:blip r:embed="rId1"/>
          <a:stretch/>
        </p:blipFill>
        <p:spPr>
          <a:xfrm>
            <a:off x="-262080" y="109440"/>
            <a:ext cx="9412560" cy="85107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8637840" cy="11397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flipV="1" rot="10800000">
            <a:off x="0" y="821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Эритроциты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е кровяные клетки.  Они очень малы. В 1 кубическом  мм их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5 млн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ые эритроциты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не имеют ядер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клетки 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двояковогнут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ы, не способны к самостоятельному движению. Внутри клеток  находиться гемоглобин – соединение белка и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желе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ритроциты зарожд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красном костном моз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разруш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селезенке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эритроцитов- транспорт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га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болевание, связанное с уменьшением количества эритроцитов в крови, называется 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малокровием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(анеми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Блок-схема: магнитный диск 1"/>
          <p:cNvSpPr/>
          <p:nvPr/>
        </p:nvSpPr>
        <p:spPr>
          <a:xfrm>
            <a:off x="2071800" y="2000160"/>
            <a:ext cx="2357280" cy="314352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У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нутый угол 6"/>
          <p:cNvSpPr/>
          <p:nvPr/>
        </p:nvSpPr>
        <p:spPr>
          <a:xfrm>
            <a:off x="5429160" y="1928880"/>
            <a:ext cx="2214720" cy="28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локо 1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оугольник 7" descr=""/>
          <p:cNvPicPr/>
          <p:nvPr/>
        </p:nvPicPr>
        <p:blipFill>
          <a:blip r:embed="rId1"/>
          <a:stretch/>
        </p:blipFill>
        <p:spPr>
          <a:xfrm>
            <a:off x="-244440" y="1463760"/>
            <a:ext cx="2475000" cy="19684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317520" y="19447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249120" y="1938240"/>
            <a:ext cx="1433520" cy="12859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3"/>
          <p:cNvSpPr/>
          <p:nvPr/>
        </p:nvSpPr>
        <p:spPr>
          <a:xfrm>
            <a:off x="428760" y="364320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7715160" y="171468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786800" y="371484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гнутая вверх стрелка 16"/>
          <p:cNvSpPr/>
          <p:nvPr/>
        </p:nvSpPr>
        <p:spPr>
          <a:xfrm rot="13042800">
            <a:off x="6352920" y="4572720"/>
            <a:ext cx="1842840" cy="730440"/>
          </a:xfrm>
          <a:custGeom>
            <a:avLst/>
            <a:gdLst>
              <a:gd name="textAreaLeft" fmla="*/ 392040 w 1842840"/>
              <a:gd name="textAreaRight" fmla="*/ 1359360 w 184284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6" hR="21600" stAng="10800000" swAng="5400000"/>
                <a:lnTo>
                  <a:pt x="11335" y="0"/>
                </a:lnTo>
                <a:arcTo wR="9196" hR="21600" stAng="-5400000" swAng="3525784"/>
                <a:lnTo>
                  <a:pt x="21308" y="16200"/>
                </a:lnTo>
                <a:lnTo>
                  <a:pt x="19461" y="21600"/>
                </a:lnTo>
                <a:lnTo>
                  <a:pt x="17029" y="16200"/>
                </a:lnTo>
                <a:lnTo>
                  <a:pt x="18099" y="16200"/>
                </a:lnTo>
                <a:arcTo wR="9196" hR="21600" stAng="-1874216" swAng="-3354547"/>
                <a:lnTo>
                  <a:pt x="10265" y="147"/>
                </a:lnTo>
                <a:arcTo wR="9196" hR="21600" stAng="-5571238" swAng="-5228762"/>
                <a:close/>
              </a:path>
              <a:path fill="darkenLess" w="21600" h="21600">
                <a:moveTo>
                  <a:pt x="0" y="21600"/>
                </a:moveTo>
                <a:arcTo wR="9196" hR="21600" stAng="10800000" swAng="5400000"/>
                <a:lnTo>
                  <a:pt x="9196" y="0"/>
                </a:lnTo>
                <a:arcTo wR="9196" hR="21600" stAng="-5400000" swAng="171238"/>
                <a:lnTo>
                  <a:pt x="10265" y="147"/>
                </a:lnTo>
                <a:arcTo wR="9196" hR="21600" stAng="-5571238" swAng="-5228762"/>
                <a:close/>
              </a:path>
            </a:pathLst>
          </a:custGeom>
          <a:solidFill>
            <a:srgbClr val="0d0d0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7748640" y="3876840"/>
            <a:ext cx="1139760" cy="149364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ая соединительная линия 19" descr=""/>
          <p:cNvPicPr/>
          <p:nvPr/>
        </p:nvPicPr>
        <p:blipFill>
          <a:blip r:embed="rId5"/>
          <a:stretch/>
        </p:blipFill>
        <p:spPr>
          <a:xfrm>
            <a:off x="7607160" y="3943440"/>
            <a:ext cx="1354320" cy="142056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3" descr=""/>
          <p:cNvPicPr/>
          <p:nvPr/>
        </p:nvPicPr>
        <p:blipFill>
          <a:blip r:embed="rId6"/>
          <a:stretch/>
        </p:blipFill>
        <p:spPr>
          <a:xfrm>
            <a:off x="493560" y="-225360"/>
            <a:ext cx="81932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1719360" y="-6480"/>
            <a:ext cx="10442520" cy="30546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8584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c7154"/>
                </a:solidFill>
                <a:latin typeface="Arial"/>
              </a:rPr>
              <a:t>(Что такое вакцина?  Кто впервые в мире применил вакцинацию? Зачем нужны прививки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955000" cy="142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3:45Z</dcterms:created>
  <dc:creator>Admin</dc:creator>
  <dc:description/>
  <dc:language>en-US</dc:language>
  <cp:lastModifiedBy>Admin</cp:lastModifiedBy>
  <dcterms:modified xsi:type="dcterms:W3CDTF">2011-04-02T06:29:06Z</dcterms:modified>
  <cp:revision>172</cp:revision>
  <dc:subject/>
  <dc:title>Слайд 1</dc:title>
</cp:coreProperties>
</file>